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FAF7-31B7-48DB-B802-DE0013E201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we do a tri-photo with each environment represen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5A77-7814-4948-904A-C0E4B40B98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insert new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3609-DC77-4DF4-AD3C-9A9DD15C74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B3F9-BC58-4D30-A6D6-615AC77CD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19D9-A06C-478F-91C3-7676E0ACE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635F-F8A5-419B-92C9-11A4430D1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4438-2B4B-448A-AC17-1DBBACCCB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9AE2-D0F5-4218-A283-32601E4D9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YP fundamental concepts are dimensions of the IB mission statement, developed in the learner profile, that need to be highlighted and especially developed in the MYP. These 3 fundamental concepts provide guidance for schools in developing their school cul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8782-E5B3-45A5-8248-8D1C161F99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ught in any language, though officially supported in 4: English French Spanish Chin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988B-1E47-4E4E-932B-3CFA3940D7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are required to study their mother tongue, a second language, humanities, sciences, mathematics, arts, physical education and technology.  In the fifth</a:t>
            </a:r>
            <a:r>
              <a:rPr b="0" lang="en-GB" sz="1200" spc="-1" strike="noStrike">
                <a:solidFill>
                  <a:srgbClr val="ff4c22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r of the programme, students also engage in a personal project, which allows them to demonstrate the understandings and skills they have developed throughout the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 requirements can be integrated into this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8FF6-1D58-4707-82CD-500C3B2DA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4A4F-81CB-42E9-836C-516692692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F964-D229-4099-A538-1075C289E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062E-1A5F-4432-A97E-E764B1D51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04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572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636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04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572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9901-625F-4133-A95C-382D6744F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6360" y="914040"/>
            <a:ext cx="785016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A100-A02D-453C-A16B-C4264C932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04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5720" y="198108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636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04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5720" y="4130640"/>
            <a:ext cx="253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C670-659F-48E2-98F5-4C40A4F35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509D-FD94-45DD-83C8-E6A8B301D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EF15-925D-43E9-BE95-0DA83461E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6360" y="914040"/>
            <a:ext cx="7850160" cy="31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FE3A-33B5-46C7-BF5A-6EF82EC85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6414-61A6-4979-920D-A82C6C4B9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13064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3BC1-1BB5-4FF8-8E87-5CFEDCDDE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36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1981080"/>
            <a:ext cx="383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6360" y="4130640"/>
            <a:ext cx="786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AE5D-EA86-40FD-8C96-B5A1FD6D2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76000" y="63622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77a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Times New Roman"/>
              </a:rPr>
              <a:t>Page </a:t>
            </a:r>
            <a:fld id="{214BC2C2-8D75-4104-9453-B6E924B99477}" type="slidenum">
              <a:rPr b="0" lang="en-GB" sz="1000" spc="-1" strike="noStrike">
                <a:solidFill>
                  <a:srgbClr val="377a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Powerpoint graphic 1"/>
          <p:cNvPicPr/>
          <p:nvPr/>
        </p:nvPicPr>
        <p:blipFill>
          <a:blip r:embed="rId2"/>
          <a:stretch/>
        </p:blipFill>
        <p:spPr>
          <a:xfrm>
            <a:off x="152280" y="152280"/>
            <a:ext cx="7543800" cy="7095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3 Colour IB Hoz"/>
          <p:cNvPicPr/>
          <p:nvPr/>
        </p:nvPicPr>
        <p:blipFill>
          <a:blip r:embed="rId3"/>
          <a:stretch/>
        </p:blipFill>
        <p:spPr>
          <a:xfrm>
            <a:off x="7167600" y="304920"/>
            <a:ext cx="1295280" cy="393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6049080" y="6377040"/>
            <a:ext cx="238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77aff"/>
                </a:solidFill>
                <a:latin typeface="Arial"/>
              </a:rPr>
              <a:t>© International Baccalaureate Organization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611280" y="1589040"/>
            <a:ext cx="7810560" cy="0"/>
          </a:xfrm>
          <a:prstGeom prst="line">
            <a:avLst/>
          </a:prstGeom>
          <a:ln w="9360">
            <a:solidFill>
              <a:srgbClr val="7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Powerpoint graphic 2"/>
          <p:cNvPicPr/>
          <p:nvPr/>
        </p:nvPicPr>
        <p:blipFill>
          <a:blip r:embed="rId2"/>
          <a:stretch/>
        </p:blipFill>
        <p:spPr>
          <a:xfrm>
            <a:off x="228600" y="5530680"/>
            <a:ext cx="8686800" cy="11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3 Colour IB Hoz"/>
          <p:cNvPicPr/>
          <p:nvPr/>
        </p:nvPicPr>
        <p:blipFill>
          <a:blip r:embed="rId3"/>
          <a:stretch/>
        </p:blipFill>
        <p:spPr>
          <a:xfrm>
            <a:off x="1066680" y="1066680"/>
            <a:ext cx="5181840" cy="15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1c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3200" y="2743200"/>
            <a:ext cx="4495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1c4"/>
                </a:solidFill>
                <a:latin typeface="Arial"/>
              </a:rPr>
              <a:t>Middle Years Programme</a:t>
            </a:r>
            <a:endParaRPr b="1" lang="en-US" sz="24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0" y="57913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1c4"/>
                </a:solidFill>
                <a:latin typeface="Arial"/>
              </a:rPr>
              <a:t>The unique benefits of the MY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Areas of interaction: 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Approaches to learning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6000" y="1981080"/>
            <a:ext cx="385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rough approaches to learning, teacher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vide students with tools t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responsibility for their own lear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awareness of how they learn b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problem solving and decision making ski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awareness of thought processes and learning strate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critical, coherent and independent thoug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D96208B0-ACC1-4390-A06C-8C3BC0B72C0E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:\Strategic planning\communications\Images\Photos for calender\Possible photos for calendar\Possible photos for calendar\DSCF0006.JPG"/>
          <p:cNvPicPr/>
          <p:nvPr/>
        </p:nvPicPr>
        <p:blipFill>
          <a:blip r:embed="rId1"/>
          <a:stretch/>
        </p:blipFill>
        <p:spPr>
          <a:xfrm>
            <a:off x="4584600" y="2747880"/>
            <a:ext cx="3857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Areas of interaction: 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Community &amp; service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6000" y="1981080"/>
            <a:ext cx="38559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s area of interaction extends learn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yond the classroom and requ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udents  t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community awareness and concer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a sense of respons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an active part in the communities in which they live, thereby encouraging responsible citizenshi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 skills and attitudes that will enable effective contributions to socie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83DDF598-5A85-4E24-8E44-321C15ABFA17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:\Strategic planning\communications\Images\Photos for calender\Possible photos for calendar\Possible photos for calendar\Image bank photos\20_40_17.jpg"/>
          <p:cNvPicPr/>
          <p:nvPr/>
        </p:nvPicPr>
        <p:blipFill>
          <a:blip r:embed="rId1"/>
          <a:stretch/>
        </p:blipFill>
        <p:spPr>
          <a:xfrm>
            <a:off x="4584600" y="2754360"/>
            <a:ext cx="38577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Areas of interaction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Health &amp; social education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0937EC7B-4DEF-4328-BF89-66699FC8BECB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J:\Strategic planning\communications\Images\Photos for calender\Birkerod school\Sportsday at Birkerod Gymnasium.jpg"/>
          <p:cNvPicPr/>
          <p:nvPr/>
        </p:nvPicPr>
        <p:blipFill>
          <a:blip r:embed="rId1"/>
          <a:stretch/>
        </p:blipFill>
        <p:spPr>
          <a:xfrm>
            <a:off x="4584600" y="2592360"/>
            <a:ext cx="3857760" cy="2892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76000" y="1806120"/>
            <a:ext cx="385596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als with a variety of human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cluding physical, social and emoti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lth and intelligence. Students will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 aware of the relationship between the individual and socie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responsibility for their own well-being and for that of oth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responsibility for their social environ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 able to make informed choices for themselves with consideration for the wider socie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Areas of interaction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Environments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4CDF1134-4073-422A-9F03-7536995E9B99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6" descr=""/>
          <p:cNvPicPr/>
          <p:nvPr/>
        </p:nvPicPr>
        <p:blipFill>
          <a:blip r:embed="rId1"/>
          <a:srcRect l="0" t="0" r="0" b="11102"/>
          <a:stretch/>
        </p:blipFill>
        <p:spPr>
          <a:xfrm>
            <a:off x="4584600" y="2752560"/>
            <a:ext cx="3857760" cy="2571840"/>
          </a:xfrm>
          <a:prstGeom prst="rect">
            <a:avLst/>
          </a:prstGeom>
          <a:ln w="0">
            <a:noFill/>
          </a:ln>
        </p:spPr>
      </p:pic>
      <p:sp>
        <p:nvSpPr>
          <p:cNvPr id="143" name="Content Placeholder 2"/>
          <p:cNvSpPr/>
          <p:nvPr/>
        </p:nvSpPr>
        <p:spPr>
          <a:xfrm>
            <a:off x="642960" y="2075040"/>
            <a:ext cx="385596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ims to develop awareness of humanity’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dependence with a range o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vironments so that student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derstand issues within natural, built and virtual environ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responsibility for maintaining and improving environments that are fit for the fu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e action on issues explored through this area of inter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0ffff"/>
                </a:solidFill>
                <a:latin typeface="Arial"/>
              </a:rPr>
              <a:t>Areas of interaction: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Human ingenuity (</a:t>
            </a:r>
            <a:r>
              <a:rPr b="1" i="1" lang="en-GB" sz="2000" spc="-1" strike="noStrike">
                <a:solidFill>
                  <a:srgbClr val="3333cc"/>
                </a:solidFill>
                <a:latin typeface="Arial"/>
              </a:rPr>
              <a:t>Homo faber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88600" y="2249640"/>
            <a:ext cx="385596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udents explore the ways that hum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nds have influenced our lives. Stud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come aware of the nature of ingen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flect on the impact of innovations and creations, ideologies and ways of thinking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74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reciate the consequences of ac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AED8C8ED-2FA6-47A0-BEA1-D086EDC446C5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J:\Strategic planning\communications\Images\Photos for calender\Sekolah Global Jaya\secondary.jpg"/>
          <p:cNvPicPr/>
          <p:nvPr/>
        </p:nvPicPr>
        <p:blipFill>
          <a:blip r:embed="rId1"/>
          <a:stretch/>
        </p:blipFill>
        <p:spPr>
          <a:xfrm>
            <a:off x="4713120" y="2843280"/>
            <a:ext cx="36007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Assessment: 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How do we assess student learning in the MYP?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0600" y="1990800"/>
            <a:ext cx="4262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s a range of task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knowledge, concepts, skills and att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on refer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ly assessed (by teac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ly moderated for global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3CD70B6E-31A9-47D3-B59B-DA1C22FECABD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J:\Strategic planning\communications\Images\Photos for calender\Eyuboglu Istanbul\aktiviteler 206.jpg"/>
          <p:cNvPicPr/>
          <p:nvPr/>
        </p:nvPicPr>
        <p:blipFill>
          <a:blip r:embed="rId1"/>
          <a:stretch/>
        </p:blipFill>
        <p:spPr>
          <a:xfrm>
            <a:off x="4713120" y="2382840"/>
            <a:ext cx="38577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41c4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6360" y="1981080"/>
            <a:ext cx="786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Baccalaureate Middle Year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gramme for 11-16 year 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-centered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of academic discip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ally rigor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of interaction connect disciplines to the re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taught in an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to be used with loc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and reviewed by experienced, practicing edu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75A9C441-0559-4223-BCD3-A56BB728EB3B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41c4"/>
                </a:solidFill>
                <a:latin typeface="Arial"/>
              </a:rPr>
              <a:t>Contents </a:t>
            </a:r>
            <a:endParaRPr b="1" lang="en-US" sz="3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6360" y="1981080"/>
            <a:ext cx="78660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 mission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 IB program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er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ddle Years Programm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s of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vie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DDC18842-AFD0-49F1-9580-C7AE362E4505}" type="slidenum">
              <a:rPr b="0" lang="en-US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4B2A8F43-B031-44D1-9828-70C255F6E9FA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668160" y="1992240"/>
            <a:ext cx="4337280" cy="274680"/>
          </a:xfrm>
          <a:prstGeom prst="rect">
            <a:avLst/>
          </a:prstGeom>
          <a:solidFill>
            <a:srgbClr val="4f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77880" y="912960"/>
            <a:ext cx="819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Organization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What is the IB mission and legal stat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41c4"/>
                </a:solidFill>
                <a:latin typeface="Arial"/>
              </a:rPr>
              <a:t>The IB is a not-for-profit foundation, motivated by its educational mission, focused on the stud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68160" y="2395440"/>
            <a:ext cx="457848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International Baccalaureate aims to develop inquiring, knowledgeable and caring young people who help to create a better and more peaceful world through intercultural understanding and respe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o this end the organization works with schools, governments and international organizations to develop challenging programmes of international education and rigorous assess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se programmes encourage students across the world to become active, compassionate and lifelong learners who understand that other people, with their differences, can also be righ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7240" y="4722840"/>
            <a:ext cx="41022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IB is a non-profit making Swiss Foundation registered in 1968.  The activities of the organization are determined by an Act of Foundation approved by the Swiss authorit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77880" y="5518080"/>
            <a:ext cx="7778880" cy="6001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marL="185760" indent="-1857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urther resourc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Annual Review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luding accounts is available on www.ibo.or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778360" y="2413080"/>
            <a:ext cx="275760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otivated by a mission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 aim to create a better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orld through edu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ships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 achieve our goals by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orking togeth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 value our reputation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or high standar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ion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 actively involve our stakehold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mindedness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 embrace divers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671400" y="4305240"/>
            <a:ext cx="4442040" cy="274680"/>
          </a:xfrm>
          <a:prstGeom prst="rect">
            <a:avLst/>
          </a:prstGeom>
          <a:solidFill>
            <a:srgbClr val="4f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Legal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805360" y="1994040"/>
            <a:ext cx="2700360" cy="272880"/>
          </a:xfrm>
          <a:prstGeom prst="rect">
            <a:avLst/>
          </a:prstGeom>
          <a:solidFill>
            <a:srgbClr val="4f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Core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1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DF28E6E0-0B05-4DF5-B73F-78B72F6E1A9E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27"/>
          <p:cNvSpPr/>
          <p:nvPr/>
        </p:nvSpPr>
        <p:spPr>
          <a:xfrm>
            <a:off x="677880" y="912960"/>
            <a:ext cx="8018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Programmes 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What is the learner profile?</a:t>
            </a:r>
            <a:br>
              <a:rPr sz="2000"/>
            </a:br>
            <a:r>
              <a:rPr b="0" i="1" lang="en-GB" sz="1400" spc="-1" strike="noStrike">
                <a:solidFill>
                  <a:srgbClr val="0041c4"/>
                </a:solidFill>
                <a:latin typeface="Arial"/>
              </a:rPr>
              <a:t>It’s the IB mission statement translated into a set of learning outcomes for the 21</a:t>
            </a:r>
            <a:r>
              <a:rPr b="0" i="1" lang="en-GB" sz="1400" spc="-1" strike="noStrike" baseline="30000">
                <a:solidFill>
                  <a:srgbClr val="0041c4"/>
                </a:solidFill>
                <a:latin typeface="Arial"/>
              </a:rPr>
              <a:t>st</a:t>
            </a:r>
            <a:r>
              <a:rPr b="0" i="1" lang="en-GB" sz="1400" spc="-1" strike="noStrike">
                <a:solidFill>
                  <a:srgbClr val="0041c4"/>
                </a:solidFill>
                <a:latin typeface="Arial"/>
              </a:rPr>
              <a:t> centu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31"/>
          <p:cNvSpPr/>
          <p:nvPr/>
        </p:nvSpPr>
        <p:spPr>
          <a:xfrm>
            <a:off x="628560" y="4973760"/>
            <a:ext cx="4533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attributes of the learner profile express the values inherent to the IB continuum of international education: these are values that should infuse all elements of the three programmes and, therefore, the culture and ethos of all IB World School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B programmes promote the education of the whole person, emphasizing intellectual, personal, emotional and social growth through all domains of knowledg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34"/>
          <p:cNvSpPr/>
          <p:nvPr/>
        </p:nvSpPr>
        <p:spPr>
          <a:xfrm>
            <a:off x="5751360" y="1741320"/>
            <a:ext cx="252900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B learners strive to b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quir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ink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municat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incip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n-min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isk-tak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flec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36" descr="C:\temp\Tsunami 2\IBO AISB Sri Lanka trip 058-1.JPG"/>
          <p:cNvPicPr/>
          <p:nvPr/>
        </p:nvPicPr>
        <p:blipFill>
          <a:blip r:embed="rId1"/>
          <a:stretch/>
        </p:blipFill>
        <p:spPr>
          <a:xfrm>
            <a:off x="669960" y="1805040"/>
            <a:ext cx="4543560" cy="3009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1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2BCC092D-FF57-49D9-80F2-79C18C6E9C01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914040"/>
            <a:ext cx="7842240" cy="8096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edff"/>
                </a:solidFill>
                <a:latin typeface="Arial"/>
              </a:rPr>
              <a:t>Programmes: </a:t>
            </a:r>
            <a:r>
              <a:rPr b="1" lang="en-GB" sz="2400" spc="-1" strike="noStrike">
                <a:solidFill>
                  <a:srgbClr val="0041c4"/>
                </a:solidFill>
                <a:latin typeface="Arial"/>
              </a:rPr>
              <a:t>What is the MYP programme?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974880" y="3716280"/>
            <a:ext cx="1993680" cy="16178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rriculum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3533760" y="3727440"/>
            <a:ext cx="1994040" cy="16178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6138720" y="3706920"/>
            <a:ext cx="1994040" cy="161748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chool 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amp; programm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3543480" y="2284920"/>
            <a:ext cx="1849320" cy="837000"/>
          </a:xfrm>
          <a:prstGeom prst="flowChartAlternateProcess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ddle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ges 11 -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Philosophy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: What are the fundamental concepts of the MYP?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6000" y="1981080"/>
            <a:ext cx="385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istic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680B5642-7CD1-452D-8A70-3E7F7ABA9144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J:\Strategic planning\communications\Images\Photos for calender\Australian International Academy\pics part 4\IMG_1161.jpg"/>
          <p:cNvPicPr/>
          <p:nvPr/>
        </p:nvPicPr>
        <p:blipFill>
          <a:blip r:embed="rId1"/>
          <a:stretch/>
        </p:blipFill>
        <p:spPr>
          <a:xfrm>
            <a:off x="4584600" y="2592360"/>
            <a:ext cx="38577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0C8B4DE4-0899-44A2-ADEB-45C42609DF92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6360" y="1076400"/>
            <a:ext cx="7850160" cy="4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Definition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How is the Middle Years Programme defined?</a:t>
            </a:r>
            <a:br>
              <a:rPr sz="1900"/>
            </a:b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4600" y="1900080"/>
            <a:ext cx="7948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YP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tudents aged 11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ramework of academic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 subject groups, plus personal project in the final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ught in an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YP encourages student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nd the connections between subjects through interdisciplinary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nd the connections between subjects and the re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e critical and reflective thin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3F10E093-C89E-45D5-8387-D06235EFFD4D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edff"/>
                </a:solidFill>
                <a:latin typeface="Arial"/>
              </a:rPr>
              <a:t>Philosophy:</a:t>
            </a: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 Programme model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pic>
        <p:nvPicPr>
          <p:cNvPr id="124" name="Picture 5" descr="J:\Strategic planning\communications\Programme models\English Models\Eng MYP PMS copy.jpg"/>
          <p:cNvPicPr/>
          <p:nvPr/>
        </p:nvPicPr>
        <p:blipFill>
          <a:blip r:embed="rId1"/>
          <a:stretch/>
        </p:blipFill>
        <p:spPr>
          <a:xfrm>
            <a:off x="1243080" y="1684440"/>
            <a:ext cx="637056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6360" y="914040"/>
            <a:ext cx="785016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41c4"/>
                </a:solidFill>
                <a:latin typeface="Arial"/>
              </a:rPr>
              <a:t>What are the areas of interaction?</a:t>
            </a:r>
            <a:endParaRPr b="1" lang="en-US" sz="2000" spc="-1" strike="noStrike">
              <a:solidFill>
                <a:srgbClr val="0041c4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30040" y="1981080"/>
            <a:ext cx="731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es to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and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41c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and soci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41c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nts</a:t>
            </a:r>
            <a:r>
              <a:rPr b="0" lang="en-GB" sz="2000" spc="-1" strike="noStrike">
                <a:solidFill>
                  <a:srgbClr val="ff4c2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41c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ingenuity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omo fab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41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576360" y="636264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77aff"/>
                </a:solidFill>
                <a:latin typeface="Arial"/>
              </a:rPr>
              <a:t>Page </a:t>
            </a:r>
            <a:fld id="{4AC1107C-41D8-4577-80B6-20B661329134}" type="slidenum">
              <a:rPr b="0" lang="en-GB" sz="1000" spc="-1" strike="noStrike">
                <a:solidFill>
                  <a:srgbClr val="377a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4:33:17Z</dcterms:created>
  <dc:creator>ZoeclaireK</dc:creator>
  <dc:description/>
  <dc:language>en-US</dc:language>
  <cp:lastModifiedBy>visitor</cp:lastModifiedBy>
  <dcterms:modified xsi:type="dcterms:W3CDTF">2008-04-03T08:40:28Z</dcterms:modified>
  <cp:revision>104</cp:revision>
  <dc:subject/>
  <dc:title>PowerPoint Presentation</dc:title>
</cp:coreProperties>
</file>